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06CD-2B56-4F92-958E-88098C8CD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06400" y="393156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A76F-9B45-4050-8D30-0AA97A98C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762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5412-396D-47C5-8BB9-3325F59D4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64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688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0640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64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688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C624-2659-44E9-B4BD-FFAAB9E9B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06400" y="1047600"/>
            <a:ext cx="794232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4655-5C6D-4109-86E2-47BEB934C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762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06400" y="393156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762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9164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7688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0640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9164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7688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E9D9-4478-491A-946E-18D6EA33C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7312-8C6A-43E2-8E10-69654BE89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9102-51BF-491E-98D0-441A66F6E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6400" y="1047600"/>
            <a:ext cx="794232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D81D-C983-4878-9DD7-712B201AE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AD2F-F6B9-4993-9E7F-29F770844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762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6053-5727-4E38-9692-C0E10165A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B3F3-0548-4F26-BD3A-5019E7EE7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-31212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18840" indent="-30384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75120" indent="-52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61640" indent="-52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61640" indent="-52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61640" indent="-52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2520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279BFB5D-F32B-4E32-BC3A-207DF4F302E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631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556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192C08D8-171F-4B2C-8B9C-F4AEED0916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376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tUF EF berichten bij huidige formulie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376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spcBef>
                <a:spcPts val="6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ackporting naar StUF EF 2.04 bijna voltoo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spcBef>
                <a:spcPts val="6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raag reactie op discussiepunten (Bijlagen, Geneste elementen, Prefixen) &amp; Valida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spcBef>
                <a:spcPts val="6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tus &amp; formalis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D3AE-1387-4A8B-909E-681215DB65C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StUF EF berichten bij nieuwe releas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UF EF 3.01” ber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november ge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1 oktober: concept formulieren gere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5:38:20Z</dcterms:created>
  <dc:creator>jegor</dc:creator>
  <dc:description/>
  <dc:language>en-US</dc:language>
  <cp:lastModifiedBy>jegor</cp:lastModifiedBy>
  <dcterms:modified xsi:type="dcterms:W3CDTF">2009-09-23T05:39:31Z</dcterms:modified>
  <cp:revision>1</cp:revision>
  <dc:subject/>
  <dc:title>StUF EF berichten bij huidige formulieren</dc:title>
</cp:coreProperties>
</file>